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4.png" ContentType="image/png"/>
  <Override PartName="/ppt/media/image36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3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2.png" ContentType="image/png"/>
  <Override PartName="/ppt/media/image24.png" ContentType="image/png"/>
  <Override PartName="/ppt/media/image63.jpeg" ContentType="image/jpe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jpeg" ContentType="image/jpeg"/>
  <Override PartName="/ppt/media/image40.png" ContentType="image/png"/>
  <Override PartName="/ppt/media/image26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56.jpeg" ContentType="image/jpeg"/>
  <Override PartName="/ppt/media/image53.png" ContentType="image/pn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D30-A449-46C2-BC60-1B304E6E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246-CE0D-4B25-B07C-298A5923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A4C-767E-4F0D-AB4B-056F7B2F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FB3-E9D0-4FA6-BB32-0D86D4E5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7CAC-3074-478F-BE39-8B92F911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765C-893B-4E54-9E78-CCC28E8C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9084-6F61-405B-A197-783633DC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C437-748C-4207-83EC-8191E0A3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CE76-D8B3-4734-9862-41E27203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666B-46D8-4CDB-A039-3DB31311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EAFC-4CB5-4985-AF3C-7B0FF433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684-6942-4F55-93E8-E5202D7F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4439-9A55-44AB-9656-81875C04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9EA2-B0C1-49D1-A33E-E92B36DB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89FE-D6A5-4939-ACF5-15C8BE6B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8F64-3AF3-46E8-98C3-20214B15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9BA5-6311-4622-9282-A9E1651A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04B-8898-4A73-878D-4AE357A0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764-EEE4-4D38-B0D1-F39424CA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14D-5332-48DD-8F9D-E18FD8DB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565-03D3-405A-B922-A937D5C7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CAA-36C1-4564-AA86-F03FC27F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20C-C216-4AB2-8FB2-C577B8F7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A2B-6E16-4C33-8D2A-ACF91434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51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27B1-AEA4-4CB8-A300-A32085B5B07B}" type="slidenum">
              <a:rPr b="0" lang="es-E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3" name="Group 15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31"/>
            <p:cNvGrpSpPr/>
            <p:nvPr/>
          </p:nvGrpSpPr>
          <p:grpSpPr>
            <a:xfrm>
              <a:off x="5261040" y="1424880"/>
              <a:ext cx="1101600" cy="1099080"/>
              <a:chOff x="5261040" y="1424880"/>
              <a:chExt cx="1101600" cy="1099080"/>
            </a:xfrm>
          </p:grpSpPr>
          <p:pic>
            <p:nvPicPr>
              <p:cNvPr id="355" name="Oval 31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4880"/>
                <a:ext cx="11016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440" y="1601640"/>
                <a:ext cx="75024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7" name="Oval 32"/>
            <p:cNvGrpSpPr/>
            <p:nvPr/>
          </p:nvGrpSpPr>
          <p:grpSpPr>
            <a:xfrm>
              <a:off x="5427720" y="1401120"/>
              <a:ext cx="851400" cy="844920"/>
              <a:chOff x="5427720" y="1401120"/>
              <a:chExt cx="851400" cy="844920"/>
            </a:xfrm>
          </p:grpSpPr>
          <p:pic>
            <p:nvPicPr>
              <p:cNvPr id="358" name="Oval 32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401120"/>
                <a:ext cx="85140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120" y="1540800"/>
                <a:ext cx="5731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0" name="Oval 28"/>
            <p:cNvGrpSpPr/>
            <p:nvPr/>
          </p:nvGrpSpPr>
          <p:grpSpPr>
            <a:xfrm>
              <a:off x="5040360" y="1868040"/>
              <a:ext cx="631080" cy="626400"/>
              <a:chOff x="5040360" y="1868040"/>
              <a:chExt cx="631080" cy="626400"/>
            </a:xfrm>
          </p:grpSpPr>
          <p:pic>
            <p:nvPicPr>
              <p:cNvPr id="361" name="Oval 28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8040"/>
                <a:ext cx="63108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6400"/>
                <a:ext cx="41580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3" name="Oval 30"/>
            <p:cNvGrpSpPr/>
            <p:nvPr/>
          </p:nvGrpSpPr>
          <p:grpSpPr>
            <a:xfrm>
              <a:off x="5207400" y="1791360"/>
              <a:ext cx="518040" cy="514080"/>
              <a:chOff x="5207400" y="1791360"/>
              <a:chExt cx="518040" cy="514080"/>
            </a:xfrm>
          </p:grpSpPr>
          <p:pic>
            <p:nvPicPr>
              <p:cNvPr id="364" name="Oval 30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91360"/>
                <a:ext cx="51804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9920"/>
                <a:ext cx="3380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6" name="Oval 27"/>
            <p:cNvGrpSpPr/>
            <p:nvPr/>
          </p:nvGrpSpPr>
          <p:grpSpPr>
            <a:xfrm>
              <a:off x="4516560" y="2051280"/>
              <a:ext cx="297720" cy="295200"/>
              <a:chOff x="4516560" y="2051280"/>
              <a:chExt cx="297720" cy="295200"/>
            </a:xfrm>
          </p:grpSpPr>
          <p:pic>
            <p:nvPicPr>
              <p:cNvPr id="367" name="Oval 27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51280"/>
                <a:ext cx="2977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6320" y="21103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9" name="Oval 29"/>
            <p:cNvGrpSpPr/>
            <p:nvPr/>
          </p:nvGrpSpPr>
          <p:grpSpPr>
            <a:xfrm>
              <a:off x="5898240" y="993600"/>
              <a:ext cx="291600" cy="295200"/>
              <a:chOff x="5898240" y="993600"/>
              <a:chExt cx="291600" cy="295200"/>
            </a:xfrm>
          </p:grpSpPr>
          <p:pic>
            <p:nvPicPr>
              <p:cNvPr id="370" name="Oval 29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200" y="10537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2" name="Oval 33"/>
            <p:cNvGrpSpPr/>
            <p:nvPr/>
          </p:nvGrpSpPr>
          <p:grpSpPr>
            <a:xfrm>
              <a:off x="4849920" y="1868040"/>
              <a:ext cx="237960" cy="236160"/>
              <a:chOff x="4849920" y="1868040"/>
              <a:chExt cx="237960" cy="236160"/>
            </a:xfrm>
          </p:grpSpPr>
          <p:pic>
            <p:nvPicPr>
              <p:cNvPr id="373" name="Oval 33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8040"/>
                <a:ext cx="23796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5" name="Oval 34"/>
            <p:cNvGrpSpPr/>
            <p:nvPr/>
          </p:nvGrpSpPr>
          <p:grpSpPr>
            <a:xfrm>
              <a:off x="5916240" y="1064520"/>
              <a:ext cx="232200" cy="230400"/>
              <a:chOff x="5916240" y="1064520"/>
              <a:chExt cx="232200" cy="230400"/>
            </a:xfrm>
          </p:grpSpPr>
          <p:pic>
            <p:nvPicPr>
              <p:cNvPr id="376" name="Oval 34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64520"/>
                <a:ext cx="2322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480" y="111060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372F-39E6-41B8-9C5A-B26FDE4BF6D6}" type="slidenum">
              <a:rPr b="0" lang="es-E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www.bing.com/videos/search?q=los+ecosistemas+en+primaria&amp;qs=AS&amp;form=QBVR&amp;pq=los+ecosistemas+&amp;sc=8-16&amp;sp=1&amp;sk=" TargetMode="External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hyperlink" Target="http://www.bing.com/videos/search?q=los+ecosistemas+en+primaria&amp;qs=AS&amp;form=QBVR&amp;pq=los+ecosistemas+&amp;sc=8-16&amp;sp=1&amp;sk=" TargetMode="External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Verdana"/>
              </a:rPr>
              <a:t>Los seres vivos y su entorn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732360" y="4776840"/>
            <a:ext cx="139356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edd78"/>
                </a:solidFill>
                <a:latin typeface="Verdana"/>
              </a:rPr>
              <a:t>4º de Primar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1 Imagen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064360" cy="3205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230364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l hábitat: comunidad y ecosistem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203640" y="189000"/>
            <a:ext cx="61927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El hábitat de un ser vivo es el lugar donde viv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Características: temperatura, aire, agua y suel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La comunidad de los seres vivos: es el conjunto de los seres vivos que viven en el mismo hábitat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Ecosistema: está formado por una comunidad de seres vivos y el hábitat en el que viven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1 Imagen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785440" cy="4695840"/>
          </a:xfrm>
          <a:prstGeom prst="rect">
            <a:avLst/>
          </a:prstGeom>
          <a:ln w="0">
            <a:noFill/>
          </a:ln>
        </p:spPr>
      </p:pic>
      <p:pic>
        <p:nvPicPr>
          <p:cNvPr id="425" name="3 Imagen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1197000"/>
            <a:ext cx="789120" cy="563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080" y="115920"/>
            <a:ext cx="39765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ecosistem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6640" y="1413000"/>
            <a:ext cx="2336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cosistemas terrest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elv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Pol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esiertos cálid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osques mediterráneo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cosistemas acuátic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Marino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De agua dul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1 Imagen" descr=""/>
          <p:cNvPicPr/>
          <p:nvPr/>
        </p:nvPicPr>
        <p:blipFill>
          <a:blip r:embed="rId1"/>
          <a:stretch/>
        </p:blipFill>
        <p:spPr>
          <a:xfrm>
            <a:off x="2771640" y="393840"/>
            <a:ext cx="6372360" cy="6070320"/>
          </a:xfrm>
          <a:prstGeom prst="rect">
            <a:avLst/>
          </a:prstGeom>
          <a:ln w="0">
            <a:noFill/>
          </a:ln>
        </p:spPr>
      </p:pic>
      <p:pic>
        <p:nvPicPr>
          <p:cNvPr id="429" name="2 Imagen" descr=""/>
          <p:cNvPicPr/>
          <p:nvPr/>
        </p:nvPicPr>
        <p:blipFill>
          <a:blip r:embed="rId2"/>
          <a:stretch/>
        </p:blipFill>
        <p:spPr>
          <a:xfrm>
            <a:off x="7124760" y="765000"/>
            <a:ext cx="1755720" cy="1163880"/>
          </a:xfrm>
          <a:prstGeom prst="rect">
            <a:avLst/>
          </a:prstGeom>
          <a:ln w="0">
            <a:noFill/>
          </a:ln>
        </p:spPr>
      </p:pic>
      <p:sp>
        <p:nvSpPr>
          <p:cNvPr id="430" name="3 CuadroTexto"/>
          <p:cNvSpPr/>
          <p:nvPr/>
        </p:nvSpPr>
        <p:spPr>
          <a:xfrm>
            <a:off x="7157880" y="40644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4480c"/>
                </a:solidFill>
                <a:latin typeface="Verdana"/>
              </a:rPr>
              <a:t>Los po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4 Imagen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5480" y="5622840"/>
            <a:ext cx="131760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s seres vivos se relacion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78920" y="1413000"/>
            <a:ext cx="712476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os seres vivos se relacionan: dependen unos de otros para alimentarse, reproducirse y proteger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laciones alimentarias: cuando uno se alimenta del otr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adenas alimentarias: una representación de las relaciones alimentarias entre diferentes seres viv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4" name="1 Imagen" descr=""/>
          <p:cNvPicPr/>
          <p:nvPr/>
        </p:nvPicPr>
        <p:blipFill>
          <a:blip r:embed="rId1"/>
          <a:stretch/>
        </p:blipFill>
        <p:spPr>
          <a:xfrm>
            <a:off x="7607160" y="4179960"/>
            <a:ext cx="1173240" cy="836640"/>
          </a:xfrm>
          <a:prstGeom prst="rect">
            <a:avLst/>
          </a:prstGeom>
          <a:ln w="0">
            <a:noFill/>
          </a:ln>
        </p:spPr>
      </p:pic>
      <p:pic>
        <p:nvPicPr>
          <p:cNvPr id="435" name="2 Imagen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6846840" cy="2887920"/>
          </a:xfrm>
          <a:prstGeom prst="rect">
            <a:avLst/>
          </a:prstGeom>
          <a:ln w="0">
            <a:noFill/>
          </a:ln>
        </p:spPr>
      </p:pic>
      <p:pic>
        <p:nvPicPr>
          <p:cNvPr id="436" name="3 Imagen" descr=""/>
          <p:cNvPicPr/>
          <p:nvPr/>
        </p:nvPicPr>
        <p:blipFill>
          <a:blip r:embed="rId3"/>
          <a:stretch/>
        </p:blipFill>
        <p:spPr>
          <a:xfrm>
            <a:off x="7596360" y="5229360"/>
            <a:ext cx="1184040" cy="853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4T17:23:35Z</dcterms:created>
  <dc:creator>familia garcia</dc:creator>
  <dc:description/>
  <dc:language>en-US</dc:language>
  <cp:lastModifiedBy>familia garcia</cp:lastModifiedBy>
  <dcterms:modified xsi:type="dcterms:W3CDTF">2015-01-06T11:54:43Z</dcterms:modified>
  <cp:revision>7</cp:revision>
  <dc:subject/>
  <dc:title>Los seres vivos y su entorno</dc:title>
</cp:coreProperties>
</file>